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3AF-D990-43BD-8221-4D2DFC4F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ABB-8F20-4C80-AD3B-923DDAC5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C11-1F0C-429F-AEF4-F2E5C8C0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171-43AB-4ED9-99FF-CA2EB437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108-AFB1-4FC8-9D86-68EBDEF4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374-96A2-4E57-91C3-08C5702C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8ED-E72F-4F27-9C73-80372AD6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38C-1FB5-48B1-8AC5-FC83B313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2471-386A-4D73-B6A0-41F38E9F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C46-26A9-43C7-A908-ED01A113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7F2-E771-4E8C-B447-4F808643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3DF-680D-4261-A374-77992568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1B23-4C2D-4A73-A6F5-8EB57209D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Graffiti"/>
              </a:rPr>
              <a:t>Amcangyfrif y Cymedr a Grwp Moddol 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Graffiti"/>
              </a:rPr>
              <a:t>ar Gyfer Data Wedi’i Grwpi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-198720" y="-115920"/>
            <a:ext cx="55782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ta wedi’i grw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7786800" cy="9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orwyd pum deg o fagiau losin. Dyma gofnod o faint oedd ym mhob b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82920" y="1773360"/>
          <a:ext cx="3960720" cy="4265280"/>
        </p:xfrm>
        <a:graphic>
          <a:graphicData uri="http://schemas.openxmlformats.org/drawingml/2006/table">
            <a:tbl>
              <a:tblPr/>
              <a:tblGrid>
                <a:gridCol w="1569240"/>
                <a:gridCol w="2391480"/>
              </a:tblGrid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fer o L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l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-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-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13120" y="6122880"/>
            <a:ext cx="43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 un yw’r grwp modd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484360" y="1773360"/>
          <a:ext cx="3959280" cy="4248000"/>
        </p:xfrm>
        <a:graphic>
          <a:graphicData uri="http://schemas.openxmlformats.org/drawingml/2006/table">
            <a:tbl>
              <a:tblPr/>
              <a:tblGrid>
                <a:gridCol w="1568520"/>
                <a:gridCol w="2390760"/>
              </a:tblGrid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fer o L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l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1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1b"/>
                    </a:solidFill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-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-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8920" y="-360"/>
            <a:ext cx="882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e’r gwybodaeth isod yn dangos taldra 60 o bobl i’r cm agos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700360" y="907920"/>
          <a:ext cx="3567240" cy="4957920"/>
        </p:xfrm>
        <a:graphic>
          <a:graphicData uri="http://schemas.openxmlformats.org/drawingml/2006/table">
            <a:tbl>
              <a:tblPr/>
              <a:tblGrid>
                <a:gridCol w="2016360"/>
                <a:gridCol w="155088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ldra 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5 ≤ x ‹ 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 ≤ x ‹ 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5 ≤ x ‹ 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0 ≤ x ‹ 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5 ≤ x ‹ 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0 ≤ x ‹ 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-198720" y="-115920"/>
            <a:ext cx="55782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ta wedi’i grw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7786800" cy="9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orwyd pum deg o fagiau losin. Dyma gofnod o faint oedd ym mhob b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482920" y="1773360"/>
          <a:ext cx="3960720" cy="4265280"/>
        </p:xfrm>
        <a:graphic>
          <a:graphicData uri="http://schemas.openxmlformats.org/drawingml/2006/table">
            <a:tbl>
              <a:tblPr/>
              <a:tblGrid>
                <a:gridCol w="1569240"/>
                <a:gridCol w="2391480"/>
              </a:tblGrid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fer o L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l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-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-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13120" y="6122880"/>
            <a:ext cx="437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 un yw’r grwp modd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484360" y="1773360"/>
          <a:ext cx="3959280" cy="4248000"/>
        </p:xfrm>
        <a:graphic>
          <a:graphicData uri="http://schemas.openxmlformats.org/drawingml/2006/table">
            <a:tbl>
              <a:tblPr/>
              <a:tblGrid>
                <a:gridCol w="1568520"/>
                <a:gridCol w="2390760"/>
              </a:tblGrid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fer o L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l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1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a1b"/>
                    </a:solidFill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-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-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-1296720" y="-1065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ta wedi’i grw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7920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orwyd pum deg o fagiau losin. Dyma gofnod o faint oedd ym mhob b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50920" y="1700280"/>
          <a:ext cx="6626160" cy="4263840"/>
        </p:xfrm>
        <a:graphic>
          <a:graphicData uri="http://schemas.openxmlformats.org/drawingml/2006/table">
            <a:tbl>
              <a:tblPr/>
              <a:tblGrid>
                <a:gridCol w="1299960"/>
                <a:gridCol w="1982880"/>
                <a:gridCol w="2117880"/>
                <a:gridCol w="12254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fer o L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l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olbwynt </a:t>
                      </a: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-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-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3-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8-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5869440" y="30686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9440" y="364500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9440" y="421956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9440" y="47959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2520" y="537228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2520" y="5372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2520" y="4795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2520" y="42195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02520" y="3645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9440" y="31399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89400" y="6099120"/>
            <a:ext cx="27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yfanswm (∑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fx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41440" y="6099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4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" y="6099120"/>
            <a:ext cx="256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yfanswm (∑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m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40960" y="6099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10080" y="2355840"/>
            <a:ext cx="20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mcangyfr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’r cymedr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29600" y="3290760"/>
            <a:ext cx="15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455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÷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1400" y="38149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2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8920" y="-360"/>
            <a:ext cx="882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e’r gwybodaeth isod yn dangos taldra 60 o bobl i’r cm agos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9640" y="981000"/>
          <a:ext cx="7201080" cy="4957920"/>
        </p:xfrm>
        <a:graphic>
          <a:graphicData uri="http://schemas.openxmlformats.org/drawingml/2006/table">
            <a:tbl>
              <a:tblPr/>
              <a:tblGrid>
                <a:gridCol w="2016360"/>
                <a:gridCol w="1550880"/>
                <a:gridCol w="2149560"/>
                <a:gridCol w="148428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ldra 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olbwynt y cyfwng (grwp)  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5 ≤ x ‹ 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 ≤ x ‹ 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5 ≤ x ‹ 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0 ≤ x ‹ 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5 ≤ x ‹ 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0 ≤ x ‹ 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61720" y="6046920"/>
            <a:ext cx="74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th yw’r grwp moddol ac amcangyfrif o’r cymed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251400" y="218916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41600" y="290988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4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6040" y="35733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9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7600" y="42051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7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54480" y="47815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1320" y="478152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51320" y="414972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1320" y="350028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1320" y="290988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64280" y="226224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98560" y="621036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yfanswm (∑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fx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16160" y="621036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94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600" y="6162840"/>
            <a:ext cx="216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yfanswm (∑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m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4800" y="61628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75240" y="2246400"/>
            <a:ext cx="20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mcangyfr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’r cymedr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08160" y="3141720"/>
            <a:ext cx="15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47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÷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54360" y="36194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157.83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26280" y="4149720"/>
            <a:ext cx="18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157.83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2 lle deg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51680" y="544500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1320" y="543096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8000" y="1052640"/>
          <a:ext cx="7200720" cy="4941720"/>
        </p:xfrm>
        <a:graphic>
          <a:graphicData uri="http://schemas.openxmlformats.org/drawingml/2006/table">
            <a:tbl>
              <a:tblPr/>
              <a:tblGrid>
                <a:gridCol w="2015640"/>
                <a:gridCol w="1551240"/>
                <a:gridCol w="2157120"/>
                <a:gridCol w="1476720"/>
              </a:tblGrid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ldra (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olbwy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5 ≤ x ‹ 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0 ≤ x ‹ 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5 ≤ x ‹ 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0 ≤ x ‹ 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5 ≤ x ‹ 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0 ≤ x ‹ 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24000" y="44280"/>
            <a:ext cx="88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e’r gwybodaeth isod yn dangos taldra 60 o bobl i’r cm agos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21:56:03Z</dcterms:created>
  <dc:creator>Dewi Williams</dc:creator>
  <dc:description/>
  <dc:language>en-US</dc:language>
  <cp:lastModifiedBy>Betsan Jones</cp:lastModifiedBy>
  <dcterms:modified xsi:type="dcterms:W3CDTF">2009-01-27T12:36:50Z</dcterms:modified>
  <cp:revision>2</cp:revision>
  <dc:subject/>
  <dc:title>Amcangyfrif y Cymedr a Grwp Moddol  ar Gyfer Data Wedi’i Grwpio</dc:title>
</cp:coreProperties>
</file>